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5D6-028A-412E-AD05-2395A631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1D0-3C9F-4D4B-8E6D-79EA3FD2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A7A-8DD9-4E53-A0A9-3551CB9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8A7-3758-4E9D-B53A-07EF97E6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EE6-84DC-47D2-95DD-68BB92F1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137-79BE-4211-A80B-9028C4FB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B5E-4CA5-44B4-80CF-AC27427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91D-E2C9-4CD9-9EC6-533047D0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48E-8BE7-49C5-B293-0A82844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F65-61CC-4556-9155-35AC060C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AEB-6CF3-4F13-B89B-A5BBAF9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A41-8DAD-41EF-8BAB-1637F66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B74-33E8-47E6-B8B7-28D9A1D22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167616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Calligraphy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63868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2760" y="561816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3760" y="5656320"/>
            <a:ext cx="10666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</a:rPr>
              <a:t>Skip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6668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76520"/>
            <a:ext cx="106668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06480" y="258444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Lucida Calligraphy"/>
              </a:rPr>
              <a:t>ERIE CANAL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Lucida Calligraphy"/>
              <a:ea typeface="Lucida Calligraphy"/>
            </a:endParaRPr>
          </a:p>
        </p:txBody>
      </p:sp>
      <p:sp>
        <p:nvSpPr>
          <p:cNvPr id="60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29440" y="66348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344680" y="3659040"/>
            <a:ext cx="1919520" cy="153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45280" y="3352680"/>
            <a:ext cx="1114560" cy="10368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877080" y="2622600"/>
            <a:ext cx="1650600" cy="2819520"/>
            <a:chOff x="6877080" y="2622600"/>
            <a:chExt cx="1650600" cy="2819520"/>
          </a:xfrm>
        </p:grpSpPr>
        <p:sp>
          <p:nvSpPr>
            <p:cNvPr id="65" name=""/>
            <p:cNvSpPr/>
            <p:nvPr/>
          </p:nvSpPr>
          <p:spPr>
            <a:xfrm rot="16200000">
              <a:off x="7144920" y="2819520"/>
              <a:ext cx="45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6292440" y="3206880"/>
              <a:ext cx="2819520" cy="165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7800" y="561816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841920" y="5656320"/>
            <a:ext cx="107604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840200" y="3621240"/>
            <a:ext cx="111456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840200" y="66348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615960" y="2622600"/>
            <a:ext cx="1114560" cy="103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15240" y="4467240"/>
            <a:ext cx="15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46195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Game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563868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</a:rPr>
              <a:t>Go bac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657600"/>
            <a:ext cx="16761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2666880"/>
            <a:ext cx="106668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07120" y="4735440"/>
            <a:ext cx="1838520" cy="212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038240" y="166212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38240" y="461952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189240" y="561816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226040" y="3659040"/>
            <a:ext cx="1114200" cy="103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226040" y="663480"/>
            <a:ext cx="1114200" cy="103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451640" y="663480"/>
            <a:ext cx="11145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2-07T20:46:12Z</dcterms:modified>
  <cp:revision>8</cp:revision>
  <dc:subject/>
  <dc:title>Slide 1</dc:title>
</cp:coreProperties>
</file>